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FB86-AA40-4D92-91DC-578F795A05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E911-5157-47CF-814A-46C5A4AD4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E0D-FC31-4246-91D9-4FA6E382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505-B5D2-4A91-A948-91F05BF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B7B-52EB-45E6-9A06-8A51E066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2C3-4980-4174-AAA7-F738543D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8C57-2B8A-4834-B36A-5F428A60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5C5E-A5C1-432F-A7B5-DC1A9C1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859C-3E16-48FC-835E-AFA482E5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8132-7F84-4437-AAAC-3C30C072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F873-4D4E-4D6C-9EC1-CB03630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EF86-CD77-43E2-B8BC-B0D23F42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11C7-8699-4D91-84BE-1BC4B15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CE0-6255-44DC-8ED0-0477DE3E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01E4-7FB8-47AE-BD40-8B394D2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8494-0B2C-403A-8EAB-C2A24DDD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078C-51F2-452B-99AE-F2489241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58EA-B089-4A7E-8045-C110FF2A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F5F3-09C4-4971-A691-42A0089E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ECDD-6055-4CFE-9A1F-CF0F1A04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9AB7-48BC-41CF-B903-8BE2BD30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A73F-EAEA-4D6B-8DB7-D3731480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AC65-0252-4FB4-BF93-9E0A49CE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5695F-75EF-47C4-82AF-B13EE229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505-29F6-4521-9831-9A0BA79C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2244-C631-4990-BCF6-5360D0D8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CECC-C8A8-4A1E-9FB9-B0CE1316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8CB5-6B8B-4A2F-95C1-FBFD9CBC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D225-775D-466F-84B7-AEF4FCE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CE27-1F37-4A21-B2CF-D45D7196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8212-3C8F-4569-B01F-CC4BDDAB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2B41-7CF3-4E5E-A785-86CA47D2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FC70B-C027-4920-8A14-79078608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5EFE5-E40E-44DC-940B-1B3F726B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6369A-CD96-4E70-BFDD-106CADE4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77C-5A62-485D-A606-8E55323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3F0B2-0628-48AF-8897-27790E1A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4C73F-C1ED-4EF3-AFE4-8D3666FA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BA377-5B04-486C-9057-566B73F5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F0E1F-8767-4AF3-8431-4AF0CC9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7C9EC-BC8D-413A-B47E-CFC383F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48F3B-819D-4425-80C6-22CE323C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09BD3-03AB-4067-AAFC-B7196849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07501-7BF6-4EA8-A439-D32117AC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3D811-6B36-4092-A768-6D5A46D7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BDF7F-4CD6-4DD8-951A-20009570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EC3-1873-45F4-B4ED-6E1EDA9C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7B2D-57AD-450A-BBA1-14128B9A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94CDA-31C4-4EFE-B4CE-D7002040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99D4-237F-4996-97AE-0D37FCE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8FF1-0698-4956-B7B0-4007789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874A8-7135-450C-B063-829EBBD7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9B8E-FD67-4DED-A0FD-7111C31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7D20-6F17-4304-85A8-EA1DC45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D525-BE75-4635-9F15-7E36C546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24EE-4CBE-4232-8CE3-6436AE00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49713-DBBB-4614-872C-C8937CFF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E12-CA53-444D-91F3-F74C10D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9F581-3FA2-4BF7-8F0C-7385CA53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DE7F8-60F1-46F3-921A-C26F36DB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2C427-9A33-4015-BC60-11B869A8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C683-88CD-4D9B-93DD-043DB899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6AFF-2897-4676-9630-9D2271E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A03AB-FD5A-48A1-A956-ED54DE56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4D32-5A6E-4F8A-A97F-9E81605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30768-9F17-4656-9CB6-8FD7533E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C129F-B6A0-45B4-AD2D-9EC9841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0A8CF-7E35-4293-9B4F-F8A5749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C53-0079-4E8A-9999-F5BDC06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4BAC7-8B37-438B-B9F4-0D72968D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9F0E7-8D25-40D0-A967-EC4A453C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C478-5022-4C00-AD5E-D9D5526E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DEB-AA39-42EA-9EC9-A40362C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E80-86E2-4B16-AD3B-10BEF1E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9EF8-0A6D-4313-9D90-A8A901F5384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1A98-557B-4F9B-841D-B012860FC1C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06AF-C5F6-4DF3-BE05-644BF825530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967C-AA25-4BF2-8CEA-23990573EC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53C1-2B6A-40A1-967F-6365741C054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3056-7634-4FFE-8509-5F0CB120EC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236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6300720" y="4581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40320" y="-558360"/>
            <a:ext cx="5875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7" name="Рисунок 4" descr="10419289.jpg"/>
          <p:cNvPicPr/>
          <p:nvPr/>
        </p:nvPicPr>
        <p:blipFill>
          <a:blip r:embed="rId1"/>
          <a:stretch/>
        </p:blipFill>
        <p:spPr>
          <a:xfrm>
            <a:off x="450720" y="195120"/>
            <a:ext cx="4956480" cy="56754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87600" y="3274920"/>
            <a:ext cx="2590920" cy="25164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ЕМЫ ОРАТОРСТВА ВЕЛИКИХ ЛЮДЕ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9" descr="D:\Документы\ДНУ\5 курс\міжнародний менеджмент\btkioobama.jpg"/>
          <p:cNvPicPr/>
          <p:nvPr/>
        </p:nvPicPr>
        <p:blipFill>
          <a:blip r:embed="rId1"/>
          <a:stretch/>
        </p:blipFill>
        <p:spPr>
          <a:xfrm>
            <a:off x="142920" y="1071720"/>
            <a:ext cx="3905280" cy="2962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D:\Документы\ДНУ\5 курс\міжнародний менеджмент\610x.jpg"/>
          <p:cNvPicPr/>
          <p:nvPr/>
        </p:nvPicPr>
        <p:blipFill>
          <a:blip r:embed="rId2"/>
          <a:stretch/>
        </p:blipFill>
        <p:spPr>
          <a:xfrm>
            <a:off x="2071800" y="500040"/>
            <a:ext cx="2643120" cy="3414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D:\Документы\ДНУ\5 курс\міжнародний менеджмент\OB-DC400_0209ob_G_20090209202427.jpg"/>
          <p:cNvPicPr/>
          <p:nvPr/>
        </p:nvPicPr>
        <p:blipFill>
          <a:blip r:embed="rId3"/>
          <a:stretch/>
        </p:blipFill>
        <p:spPr>
          <a:xfrm>
            <a:off x="1714680" y="3425760"/>
            <a:ext cx="5143320" cy="3432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D:\Документы\ДНУ\5 курс\міжнародний менеджмент\116.jpg"/>
          <p:cNvPicPr/>
          <p:nvPr/>
        </p:nvPicPr>
        <p:blipFill>
          <a:blip r:embed="rId4"/>
          <a:stretch/>
        </p:blipFill>
        <p:spPr>
          <a:xfrm>
            <a:off x="5572080" y="4071960"/>
            <a:ext cx="3429000" cy="260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D:\Документы\ДНУ\5 курс\міжнародний менеджмент\Barack Obama Capitol.jpg"/>
          <p:cNvPicPr/>
          <p:nvPr/>
        </p:nvPicPr>
        <p:blipFill>
          <a:blip r:embed="rId5"/>
          <a:stretch/>
        </p:blipFill>
        <p:spPr>
          <a:xfrm>
            <a:off x="0" y="400068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D:\Документы\ДНУ\5 курс\міжнародний менеджмент\obama.jpg"/>
          <p:cNvPicPr/>
          <p:nvPr/>
        </p:nvPicPr>
        <p:blipFill>
          <a:blip r:embed="rId6"/>
          <a:stretch/>
        </p:blipFill>
        <p:spPr>
          <a:xfrm>
            <a:off x="4965840" y="1357200"/>
            <a:ext cx="4178160" cy="2786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D:\Документы\ДНУ\5 курс\міжнародний менеджмент\b40e48f4a1.jpg"/>
          <p:cNvPicPr/>
          <p:nvPr/>
        </p:nvPicPr>
        <p:blipFill>
          <a:blip r:embed="rId7"/>
          <a:stretch/>
        </p:blipFill>
        <p:spPr>
          <a:xfrm>
            <a:off x="3929040" y="14292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емы Барака Оба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14240" y="2643120"/>
            <a:ext cx="746784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Язык жест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Правило 3 пункт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Личные истории и повтор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Документы\ДНУ\5 курс\міжнародний менеджмент\picture_1.jpg"/>
          <p:cNvPicPr/>
          <p:nvPr/>
        </p:nvPicPr>
        <p:blipFill>
          <a:blip r:embed="rId1"/>
          <a:stretch/>
        </p:blipFill>
        <p:spPr>
          <a:xfrm>
            <a:off x="785880" y="214200"/>
            <a:ext cx="2475000" cy="3191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D:\Документы\ДНУ\5 курс\міжнародний менеджмент\steve-jobs-carry-ipad.jpg"/>
          <p:cNvPicPr/>
          <p:nvPr/>
        </p:nvPicPr>
        <p:blipFill>
          <a:blip r:embed="rId2"/>
          <a:stretch/>
        </p:blipFill>
        <p:spPr>
          <a:xfrm>
            <a:off x="5160960" y="3216240"/>
            <a:ext cx="3983040" cy="3641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D:\Документы\ДНУ\5 курс\міжнародний менеджмент\billionaires-9_u8kjq_18770.jpg"/>
          <p:cNvPicPr/>
          <p:nvPr/>
        </p:nvPicPr>
        <p:blipFill>
          <a:blip r:embed="rId3"/>
          <a:stretch/>
        </p:blipFill>
        <p:spPr>
          <a:xfrm>
            <a:off x="4071960" y="42876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:\Документы\ДНУ\5 курс\міжнародний менеджмент\apple_big.jpg"/>
          <p:cNvPicPr/>
          <p:nvPr/>
        </p:nvPicPr>
        <p:blipFill>
          <a:blip r:embed="rId4"/>
          <a:stretch/>
        </p:blipFill>
        <p:spPr>
          <a:xfrm>
            <a:off x="142920" y="3143160"/>
            <a:ext cx="4282920" cy="323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емы Стива Джоб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5560" y="2500200"/>
            <a:ext cx="7467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Зрительный контакт с аудиторие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Открыт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Жес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747072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)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071880" y="285480"/>
            <a:ext cx="58579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Кто не умеет говорить, тот карьеры не сделает "                                                Наполеон Бонапа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340380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3"/>
          <p:cNvSpPr/>
          <p:nvPr/>
        </p:nvSpPr>
        <p:spPr>
          <a:xfrm>
            <a:off x="0" y="392904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Люди теряют уважение к тем, кто не может говорить как следует, и они проникаются уважением к другим, кто манипулирует словами с необычайной легкостью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Шибут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2928960" y="16430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икакая другая спо обность человека не даст ему возможности с такой быстротой сделать карьеру и добиться признания, как способность хорошо говори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Деп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6643800" y="3857760"/>
            <a:ext cx="2381040" cy="290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2760" y="457200"/>
            <a:ext cx="4572000" cy="2114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28760" y="27856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сказать, чтобы эти слова были отчетливо сказан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сказаны, чтобы они были услышаны, причем, обязатель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услышав, слушатель понял смысл сказан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4929120" y="285840"/>
            <a:ext cx="394020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468360" y="1484280"/>
          <a:ext cx="8229600" cy="511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вень искусства ор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авляющи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8416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. Владение материал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что говори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Грамотная речь (соблюдение лексических, грамматических, орфоэпических норм русского литературного язы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Словарный зап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Композиция (принципы постро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. Владение соб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как говори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Естественность поведения ор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Техника речи (дикция, темп, интонация, голо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Контакт с аудитори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I. Образ орато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кто гово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Сдержанный внешний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Положение сидя или сто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Выражение лица (мими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Же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428760" y="1600200"/>
          <a:ext cx="8258040" cy="42559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70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влечь внимание слушателей, подготовить аудиторию к восприятию основной части; завоевать доверие, симпатию аудитории; вызвать интерес к предм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70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бщить информацию; обосновать 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ммировать сказанное; сделать выводы; закрепить основную мысль в памяти слушателей (повторить вкратце); призвать к действ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28400" y="2928960"/>
            <a:ext cx="46861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ественность повед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ка реч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 с аудитор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2" descr="D:\Документы\ДНУ\5 курс\міжнародний менеджмент\912695_-vse-chto-myi-govorim.jpg"/>
          <p:cNvPicPr/>
          <p:nvPr/>
        </p:nvPicPr>
        <p:blipFill>
          <a:blip r:embed="rId2"/>
          <a:stretch/>
        </p:blipFill>
        <p:spPr>
          <a:xfrm>
            <a:off x="5286240" y="1857240"/>
            <a:ext cx="3687840" cy="483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кция (от лат. dictio – "произнесение") – это произнесение зву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 (от лат. tempus – "время") – это скорость нашей речи, то время, за которое мы произносим наш текст. Нормальный темп русской речи – 120 слов в мину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онация (от лат. intonare – "громко произносить") – важное смыслоразличительное средство языка. Одно и то же предложение, произнесенное с разной интонацией, приобретает разный смыс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с имеет для оратора большое значение. Это индивидуальная характеристика человека, такая же уникальная, как отпечатки пальце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28760" y="1643040"/>
          <a:ext cx="8429400" cy="496080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2462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авляющие техники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ритерии оценки речи ора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ож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риц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77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е произнесение звуков и с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нятное произнесение; дефекты речи; "глотание" звуков и сл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104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нормальный: 120 слов в минуту; 2) умение менять (замедлять или убыстрять) темп при необходи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темп слишком быстрый или слишком медленный, 2) однородный темп на протяжении всего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779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одическое разнообразие речи; необходимые логические акценты и пау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одическое однообразие; непредвиденные затянутые пау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130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умение менять (повышать и понижать) тон; 2) достаточно громкий (уверенный) голос; 3) приятный г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монотонный голос (одинаково высокий либо низкий); 2) тихий, неуверенный, затухающий голос; 3) неприятный голос ("крикливый", "хриплый"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рессия или эмоциональность. Естественные, живые жесты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тор смотрит в глаза то нежно, то властно, то весело и легко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ваемая внешность, нередко с элементами эпатаж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жиданные выходки по ходу публичного выступле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ёткая дикция, красивый тембр, хорошая артикуляция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енин в плане дикции был одним из светлых исключений. Отчеканивал слова! Они слышались ясно! Этот великий лидер умел, несмотря на картавость, хватать аудиторию за жабры прямо с броневика. Брал энергетикой!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говорить громко, не срываясь на визг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3:12:14Z</dcterms:created>
  <dc:creator>RWT</dc:creator>
  <dc:description/>
  <dc:language>en-US</dc:language>
  <cp:lastModifiedBy>Базалий Раиса Викторовна</cp:lastModifiedBy>
  <dcterms:modified xsi:type="dcterms:W3CDTF">2015-12-10T06:28:58Z</dcterms:modified>
  <cp:revision>38</cp:revision>
  <dc:subject/>
  <dc:title>Слайд 1</dc:title>
</cp:coreProperties>
</file>